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01652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01652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C5BD62-8DB5-4489-915E-AADD9B094500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8CB369-AA74-4605-A5CA-AD5F051B9A3B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09C0A1-6E2A-4E21-BDBE-548692B5E0AB}" type="slidenum"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747B-1336-4261-AE3A-1EF7E82A1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7A67-5EA7-484D-B4C5-C08D60ED4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8125-1388-4213-BA01-81ACB3335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B145-110C-4CC8-B3CC-15F5C16994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2A4C-5602-4190-8310-AEC7735AB8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1F4B-088B-4360-8D44-7583D4A79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617F-8321-4B65-BD7F-FCDCAC70D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7000-679A-47B6-A063-6B1589B77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CDD9-3ADF-492C-9CEE-10A35AB74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794D-F137-4856-B64B-2681212AE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3095-DC83-4857-A641-856CE087A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E065-B705-4146-BBD4-898FB5A3D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2108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FC64-6CDE-4706-B137-4A10F1B7129C}" type="slidenum">
              <a:rPr b="0" lang="en-US" sz="9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foplease.com/ipa/A0876793.htm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B5D1-6D39-43CA-AB69-24D1F6755455}" type="slidenum">
              <a:rPr b="0" lang="en-US" sz="9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716360" y="1596960"/>
            <a:ext cx="3997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595"/>
                </a:solidFill>
                <a:latin typeface="Century Schoolbook"/>
              </a:rPr>
              <a:t>The Roots of American Democra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732200" y="2532240"/>
            <a:ext cx="3784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entury Schoolbook"/>
              </a:rPr>
              <a:t>What ideas gave birth to the world’s first modern democratic nation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18160" y="1179360"/>
            <a:ext cx="138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Chapter</a:t>
            </a: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" name="Picture 8" descr="GOV_SE_CH3_Page_02.jpg"/>
          <p:cNvPicPr/>
          <p:nvPr/>
        </p:nvPicPr>
        <p:blipFill>
          <a:blip r:embed="rId1"/>
          <a:srcRect l="0" t="0" r="3387" b="0"/>
          <a:stretch/>
        </p:blipFill>
        <p:spPr>
          <a:xfrm>
            <a:off x="0" y="608040"/>
            <a:ext cx="4564080" cy="624996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9"/>
          <p:cNvSpPr/>
          <p:nvPr/>
        </p:nvSpPr>
        <p:spPr>
          <a:xfrm flipH="1">
            <a:off x="4564080" y="595440"/>
            <a:ext cx="1440" cy="627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How did state constitutions lay the groundwork for the U.S. Constitution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Idea that government should be based on an established set of principles lik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opular sovereignt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imited gover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eaknesses of the Articles of Confederat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No power to tax or control tra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No executive to enforce law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No court syst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ear of a strong central govern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ree major challeng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Representation – big states vs. little st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esolved by the Great Compromise which created a bicameral (two house) legisl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lave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esolved by counting slaves as 3/5 of a person for representation and tax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Electing a Presid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esolved by setting up the Electoral Colle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Electoral Colleg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re are 48 States that have a winner-takes-all rule for the Electoral College. In these States, whichever candidate receives a majority of the vote, or a plurality of the popular vote (less than 50 percent but more than any other candidate) takes all of the State's electoral vot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Electoral Colleg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4 Times (1824,1876,1888,2000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winner of the Presidential Election did not win the Popular Vote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John Q. Adam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utherford Hay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Benjamin Harris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orge Bus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entury Schoolbook"/>
                <a:hlinkClick r:id="rId1"/>
              </a:rPr>
              <a:t>2000 Election Detail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artner UP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ad Sections 3.5 and 3.6 an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List three beliefs of the Federali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List three beliefs of the Anti-Federali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ederali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avored strong central gover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Believed separation of powers kept government from becoming too str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Believed in federalism (power divided between central and regional government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Anti-Federali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eared strong gover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Believed states are better able to represent peop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eared the Constitution lacked a bill of rights to protect citize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Look up due process.  What does it mean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ad Sections 4.2 and 4.3 and explain the purpose of each of the main parts of the Constitu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Arti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Amendm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reamble – purpose of the govern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Articles – define the powers of the three branches of governmen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Amendments – list formal changes to the Constitu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numerated powers are those powers specifically listed in the Constitu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mplied powers are those powers that come from the ‘elastic clause’ which allows Congress to make all laws necessary for carrying out its duti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2CCF-D0E9-46D1-92EC-02DB7A75CA7C}" type="slidenum">
              <a:rPr b="0" lang="en-US" sz="9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857840" y="833400"/>
            <a:ext cx="41529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ad Section 3.1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n respond to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862520" y="1654200"/>
            <a:ext cx="40226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at historic events did the two bicentennial celebrations in the United States mark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f what did the bicentennial events remind Americans? Why were these events so powerful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at ideas do you think gave bir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the world’s first modern democratic nation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 MORE KINGS!!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Picture 8" descr="GOV_SE_CH3_Page_02.jpg"/>
          <p:cNvPicPr/>
          <p:nvPr/>
        </p:nvPicPr>
        <p:blipFill>
          <a:blip r:embed="rId1"/>
          <a:srcRect l="0" t="0" r="3387" b="0"/>
          <a:stretch/>
        </p:blipFill>
        <p:spPr>
          <a:xfrm>
            <a:off x="0" y="608040"/>
            <a:ext cx="4564080" cy="624996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9"/>
          <p:cNvSpPr/>
          <p:nvPr/>
        </p:nvSpPr>
        <p:spPr>
          <a:xfrm flipH="1">
            <a:off x="4564080" y="595440"/>
            <a:ext cx="1440" cy="6270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y does each branch have different powers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o no single branch becomes too powerful and each branch is both accountable and responsible for the other branches (checks and balanc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Legislative – make laws, approve treat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xecutive – enforces laws, negotiates treat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Judicial – interprets laws and determines constitutional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Amendments (changes to the Constitution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roposed by Congress with a 2/3 vote in both hous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¾ of the state legislatures ratify (approve) the amend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152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Origins of the U.S. Constitu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4680" y="1387440"/>
            <a:ext cx="6199200" cy="3903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29520" y="550404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Judicial Review means that the Supreme Court h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e responsibility to determine whether laws ar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onstitutional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Unit 1 Assessment Topic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ion-st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gitima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blic goo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arc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ctatorshi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ket Econ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mand Econom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deral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ular sovereign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bury v. Madi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ural righ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itutional issues and resolu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eat Compromi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ticles of Confede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ue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rpose of the three parts of the Constit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Early Roo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7080" y="1430280"/>
            <a:ext cx="7675560" cy="486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47920" y="2468520"/>
            <a:ext cx="565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"/>
          <p:cNvSpPr/>
          <p:nvPr/>
        </p:nvSpPr>
        <p:spPr>
          <a:xfrm>
            <a:off x="7589880" y="309420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"/>
          <p:cNvSpPr/>
          <p:nvPr/>
        </p:nvSpPr>
        <p:spPr>
          <a:xfrm>
            <a:off x="1401840" y="3413160"/>
            <a:ext cx="43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"/>
          <p:cNvSpPr/>
          <p:nvPr/>
        </p:nvSpPr>
        <p:spPr>
          <a:xfrm>
            <a:off x="2498760" y="4618080"/>
            <a:ext cx="347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"/>
          <p:cNvSpPr/>
          <p:nvPr/>
        </p:nvSpPr>
        <p:spPr>
          <a:xfrm>
            <a:off x="3489480" y="5851440"/>
            <a:ext cx="416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Early Roo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3720" y="1554120"/>
            <a:ext cx="78692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27360" y="2468520"/>
            <a:ext cx="355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"/>
          <p:cNvSpPr/>
          <p:nvPr/>
        </p:nvSpPr>
        <p:spPr>
          <a:xfrm>
            <a:off x="1844640" y="271296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419720" y="4114800"/>
            <a:ext cx="23158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"/>
          <p:cNvSpPr/>
          <p:nvPr/>
        </p:nvSpPr>
        <p:spPr>
          <a:xfrm>
            <a:off x="6384960" y="4983120"/>
            <a:ext cx="13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"/>
          <p:cNvSpPr/>
          <p:nvPr/>
        </p:nvSpPr>
        <p:spPr>
          <a:xfrm>
            <a:off x="1203480" y="5227560"/>
            <a:ext cx="187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Early Roo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11040" y="1554120"/>
            <a:ext cx="8078760" cy="2913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04920" y="4516560"/>
            <a:ext cx="7083360" cy="506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147080" y="23018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89080" y="2575080"/>
            <a:ext cx="685800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"/>
          <p:cNvSpPr/>
          <p:nvPr/>
        </p:nvSpPr>
        <p:spPr>
          <a:xfrm>
            <a:off x="1235160" y="2849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"/>
          <p:cNvSpPr/>
          <p:nvPr/>
        </p:nvSpPr>
        <p:spPr>
          <a:xfrm>
            <a:off x="6049800" y="38703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79440" y="4160880"/>
            <a:ext cx="65232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"/>
          <p:cNvSpPr/>
          <p:nvPr/>
        </p:nvSpPr>
        <p:spPr>
          <a:xfrm>
            <a:off x="1203480" y="4435560"/>
            <a:ext cx="405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Early Roo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7600" y="1535040"/>
            <a:ext cx="8261280" cy="435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5715000" y="2377800"/>
            <a:ext cx="230184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914400" y="2759040"/>
            <a:ext cx="722304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"/>
          <p:cNvSpPr/>
          <p:nvPr/>
        </p:nvSpPr>
        <p:spPr>
          <a:xfrm>
            <a:off x="853920" y="3108240"/>
            <a:ext cx="5881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057400" y="5288040"/>
            <a:ext cx="544032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990720" y="5654520"/>
            <a:ext cx="9745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30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Key Even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yflower Compact – first written framework for self-government in the colon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Colonists learn to create rules and governments for themselv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Virginia House of Burgesses – first elected assembly in the colon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Elected assemblies spread through the colon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3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Key Even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ench and Indian War – After the war Britain imposed taxes and restrictions on the colon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Colonists feel Britain is restricting their righ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amp Act – Britain taxes colonists on paper good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Colonists feel that taxation without representation is unju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4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Key Even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exington and Concord – first armed conflict between Britain and Colonis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Start of American Revolu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claration of Independence – formal break with Britai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MPACT:  Creates vision for a government responsible to the peop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6:52:55Z</dcterms:created>
  <dc:creator>TCI  </dc:creator>
  <dc:description/>
  <dc:language>en-US</dc:language>
  <cp:lastModifiedBy>School District U46</cp:lastModifiedBy>
  <cp:lastPrinted>2007-08-24T20:48:01Z</cp:lastPrinted>
  <dcterms:modified xsi:type="dcterms:W3CDTF">2011-09-14T13:10:28Z</dcterms:modified>
  <cp:revision>401</cp:revision>
  <dc:subject/>
  <dc:title>PowerPoint Presentation</dc:title>
</cp:coreProperties>
</file>